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042-7DE6-4774-A04D-7F24F09A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37B-5D70-499E-9739-3495D10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3C1-3E2E-48B2-87E5-1AAA6363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937-8891-42C2-BCFC-AF34E230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847-2DC6-4CAD-8D28-678CBF0F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916-0240-445E-A37C-072F86E1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98F-8309-49C1-965E-F621B610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D56-9A71-4C7B-B4B3-A5143870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3C1-A96F-43C5-B226-0DD43FE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945-DAB6-4E52-85CE-A88C6373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5C4-0843-4044-AF19-2C4ADCD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B60-7B3B-46D5-A5F8-87D4E3B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9341-E02D-4123-A557-D339FF5A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828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S00580_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68580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2819520"/>
            <a:ext cx="6400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Unbounded Knapsack Problem – UP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Problema da Mochila Intei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TÓPICOS ESPECIAIS EM INTELIGÊNCIA ARTIFICIAL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 COMPUTACIONAIS PARA VND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2209680"/>
          <a:ext cx="6543720" cy="2954160"/>
        </p:xfrm>
        <a:graphic>
          <a:graphicData uri="http://schemas.openxmlformats.org/drawingml/2006/table">
            <a:tbl>
              <a:tblPr/>
              <a:tblGrid>
                <a:gridCol w="625320"/>
                <a:gridCol w="1260720"/>
                <a:gridCol w="3054240"/>
                <a:gridCol w="706320"/>
                <a:gridCol w="89712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ia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2,  2,  0,  0,  0,  0,  0,  0,  2,  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3,  1,  0,  0,  1,  0,  2,  1,  1,  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2,  2,  0,  0,  0,  0,  2,  1,  1,  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3,  5,  0,  0,  1,  0,  1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1,  0,  0,  1,  0,  1,  2,  1,  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286000" y="55627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édi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1,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vio Padrão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,18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 COMPUTACIONAIS PARA VNS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590920"/>
          <a:ext cx="6543720" cy="2989080"/>
        </p:xfrm>
        <a:graphic>
          <a:graphicData uri="http://schemas.openxmlformats.org/drawingml/2006/table">
            <a:tbl>
              <a:tblPr/>
              <a:tblGrid>
                <a:gridCol w="625320"/>
                <a:gridCol w="1260720"/>
                <a:gridCol w="3054240"/>
                <a:gridCol w="706320"/>
                <a:gridCol w="897120"/>
              </a:tblGrid>
              <a:tr h="631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ia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0,  0,  1,  1,  0,  3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2,  0,  0,  0,  0,  3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1,  0,  0,  1,  0,  3,  3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3,  0,  0,  1,  0,  3,  0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0,  0,  1,  1,  0,  3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990720" y="1981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s executados em 5 segundos de V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94360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édi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3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vio Padrão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,44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iano Pedrosa M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difíc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cnica utilizad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age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PROBLEMA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133720"/>
            <a:ext cx="76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tura dos d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agem do modelo de solu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ão da solução a uma heurístic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DELAGEM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2600" y="2133720"/>
            <a:ext cx="6970680" cy="39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tura dos D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ção dos movimen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ção inici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D ou V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ORITMO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tor de tipos de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tor de benefício dos obje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tor de quantidade dos tipos de obje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ITURA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ÇÃO DOS MOVIMENTOS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362320"/>
            <a:ext cx="716256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movimentos consistem em tirar ou acrescentar um objeto em uma dada posição, ou tirar um objeto de uma posição e acrescentar um outro objeto em uma outra posi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movimento básico foi implementado da seguinte manei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de: s = vetor soluçã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j = posição do vetor soluçã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q = quantidade a ser adicionada (1 ou –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lim = limite da quantidade existente do obje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VIMENTO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 troca_quantidade(s, j, q, lim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 (q &gt; 0)  { // if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 ((s[j]+q) &lt;= lim[j]) { // i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+=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q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se {// else i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=lim[j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0;  } //else if 2 }// i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se { // else if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 ((s[j]+q) &lt; 0) {// if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 result =s[j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(-1)*(result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se { // else if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+=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q; } //else if 3 } //if  3 } //if1 } // troca_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590920"/>
            <a:ext cx="7772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erifica se o peso dos objetos não ultrapassa a capacidade da mochila (inviabilidad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 ultrapassar é aplicada uma penal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 = benefício – inviabilidade * penal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FUNÇÃO OBJETIVO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 COMPUTACIONAIS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438280"/>
            <a:ext cx="7238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es realizados c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= 50 (número de tipos de obje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= 100 (capacidade da mochi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rand = relógio do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 testes para V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 testes para V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8:59:56Z</dcterms:created>
  <dc:creator>apmaia</dc:creator>
  <dc:description/>
  <dc:language>en-US</dc:language>
  <cp:lastModifiedBy>Adriano</cp:lastModifiedBy>
  <dcterms:modified xsi:type="dcterms:W3CDTF">2003-02-21T02:57:55Z</dcterms:modified>
  <cp:revision>8</cp:revision>
  <dc:subject/>
  <dc:title>Apresentação do PowerPoint</dc:title>
</cp:coreProperties>
</file>